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zapbig0g.wav" ContentType="audio/x-wav"/>
  <Override PartName="/ppt/media/slider22.wav" ContentType="audio/x-wav"/>
  <Override PartName="/ppt/media/bserie06.wav" ContentType="audio/x-wav"/>
  <Override PartName="/ppt/media/caralarmoff.wav" ContentType="audio/x-wav"/>
  <Override PartName="/ppt/media/lzipup01.wav" ContentType="audio/x-wav"/>
  <Override PartName="/ppt/media/h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12B-2396-4C5D-AFBC-4B5E5329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914-2B08-4C8C-BC1D-873CFDB1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E42-C48D-4679-9373-541464F9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550-092F-490C-9AF4-C96B635C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E88-99A9-47D9-B10E-969167F4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30B-5B7B-4845-8B00-45C7A4A5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1C1-BA55-4C8F-9633-182F07A0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0B5-1FBE-45C1-95A6-AC4B5227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80B-4C9F-4262-9B8B-A00E00DD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E05-FCF2-4608-A223-85C4AF8C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EAC-A2E7-4302-9BC8-F37D72CC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7EC-1543-4146-8375-E95B8096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0593-1A8C-496F-A2A7-9723BEAA4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hzipup01.wav"/><Relationship Id="rId12" Type="http://schemas.openxmlformats.org/officeDocument/2006/relationships/audio" Target="../media/zipdn102.wav"/><Relationship Id="rId13" Type="http://schemas.openxmlformats.org/officeDocument/2006/relationships/audio" Target="../media/hzipup01.wav"/><Relationship Id="rId14" Type="http://schemas.openxmlformats.org/officeDocument/2006/relationships/audio" Target="../media/zipdn102.wav"/><Relationship Id="rId15" Type="http://schemas.openxmlformats.org/officeDocument/2006/relationships/audio" Target="../media/hzipup01.wav"/><Relationship Id="rId16" Type="http://schemas.openxmlformats.org/officeDocument/2006/relationships/audio" Target="../media/zipdn102.wav"/><Relationship Id="rId17" Type="http://schemas.openxmlformats.org/officeDocument/2006/relationships/audio" Target="../media/caralarmoff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hzipup01.wav"/><Relationship Id="rId15" Type="http://schemas.openxmlformats.org/officeDocument/2006/relationships/audio" Target="../media/zipdn102.wav"/><Relationship Id="rId16" Type="http://schemas.openxmlformats.org/officeDocument/2006/relationships/audio" Target="../media/caralarmoff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slider22.wav"/><Relationship Id="rId9" Type="http://schemas.openxmlformats.org/officeDocument/2006/relationships/audio" Target="../media/caralarmoff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hzipup01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audio" Target="../media/zipdn102.wav"/><Relationship Id="rId18" Type="http://schemas.openxmlformats.org/officeDocument/2006/relationships/audio" Target="../media/caralarmoff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slider22.wav"/><Relationship Id="rId9" Type="http://schemas.openxmlformats.org/officeDocument/2006/relationships/audio" Target="../media/caralarmoff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caralarmoff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slider22.wav"/><Relationship Id="rId9" Type="http://schemas.openxmlformats.org/officeDocument/2006/relationships/audio" Target="../media/caralarmoff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caralarmoff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204920" y="4154400"/>
                <a:ext cx="522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865160" y="3236760"/>
                <a:ext cx="128124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473200" y="4132440"/>
                <a:ext cx="47484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 or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5360" y="1430280"/>
                <a:ext cx="29098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179960" y="909720"/>
            <a:ext cx="4724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hange to improper fractions and multiply or div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41440" y="3238560"/>
                <a:ext cx="133164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235400" y="204300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321300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 flipV="1">
            <a:off x="1189080" y="342576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960640" y="424800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 flipV="1">
            <a:off x="2403360" y="422280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55560" y="5084640"/>
                <a:ext cx="126216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344600" y="5972040"/>
                <a:ext cx="3571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927080" y="5576760"/>
                <a:ext cx="93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804960" y="429408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 flipV="1">
            <a:off x="1154160" y="424332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40200" y="3230640"/>
                <a:ext cx="449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 flipV="1">
            <a:off x="2397240" y="3460680"/>
            <a:ext cx="576000" cy="40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1440" y="3238560"/>
                <a:ext cx="133164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228680" y="4130640"/>
                <a:ext cx="4748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865160" y="3236760"/>
                <a:ext cx="128124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473200" y="4132440"/>
                <a:ext cx="47484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 or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25360" y="1430280"/>
                <a:ext cx="29098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179960" y="909720"/>
            <a:ext cx="4724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hange to improper fractions and multiply or div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35400" y="204300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26920" y="321300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1189080" y="342576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960640" y="424800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 flipV="1">
            <a:off x="2403360" y="422280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55560" y="5084640"/>
                <a:ext cx="126216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44600" y="5972040"/>
                <a:ext cx="3571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27080" y="5599080"/>
                <a:ext cx="936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804960" y="429408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 flipV="1">
            <a:off x="1154160" y="424332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17880" y="3252960"/>
                <a:ext cx="4935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 flipV="1">
            <a:off x="2397240" y="3460680"/>
            <a:ext cx="576000" cy="40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1480" y="5146560"/>
                <a:ext cx="185292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12920" y="5146560"/>
                <a:ext cx="85716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93560" y="3238560"/>
                <a:ext cx="14274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228680" y="4130640"/>
                <a:ext cx="4748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843200" y="3236760"/>
                <a:ext cx="132696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449440" y="4154400"/>
                <a:ext cx="522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 or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03040" y="1430280"/>
                <a:ext cx="295596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179960" y="909720"/>
            <a:ext cx="4724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hange to improper fractions and multiply or div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35400" y="204300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79320" y="5141880"/>
                <a:ext cx="451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 flipV="1">
            <a:off x="1143000" y="5362200"/>
            <a:ext cx="592200" cy="446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930400" y="6033960"/>
                <a:ext cx="4478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 flipV="1">
            <a:off x="2317680" y="619128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398760" y="5288040"/>
                <a:ext cx="12621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043520" y="6153120"/>
                <a:ext cx="447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96960" y="6230880"/>
                <a:ext cx="495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1166760" y="618012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97360" y="5249880"/>
                <a:ext cx="358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V="1">
            <a:off x="2325600" y="5429160"/>
            <a:ext cx="576360" cy="40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49360" y="5170320"/>
                <a:ext cx="175716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32080" y="5146560"/>
                <a:ext cx="61920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1440" y="3238560"/>
                <a:ext cx="133164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04920" y="4154400"/>
                <a:ext cx="522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84320" y="3236760"/>
                <a:ext cx="104292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06680" y="4154400"/>
                <a:ext cx="522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 or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03040" y="1452600"/>
                <a:ext cx="29559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179960" y="909720"/>
            <a:ext cx="4724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hange to improper fractions and multiply or div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35400" y="204300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398760" y="5288040"/>
                <a:ext cx="12621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043520" y="6153120"/>
                <a:ext cx="447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96960" y="6230880"/>
                <a:ext cx="495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V="1">
            <a:off x="1166760" y="618012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997360" y="5249880"/>
                <a:ext cx="358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 flipV="1">
            <a:off x="2325600" y="5429160"/>
            <a:ext cx="576360" cy="40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1680" y="5765760"/>
                <a:ext cx="8478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37160" y="5288040"/>
                <a:ext cx="7668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675400" y="6153120"/>
                <a:ext cx="447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66720" y="5146560"/>
                <a:ext cx="152100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355840" y="5146560"/>
                <a:ext cx="57168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1440" y="3238560"/>
                <a:ext cx="133164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228680" y="4130640"/>
                <a:ext cx="4748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84320" y="3236760"/>
                <a:ext cx="104292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576520" y="4154400"/>
                <a:ext cx="380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 or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5200" y="1444680"/>
                <a:ext cx="25401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179960" y="909720"/>
            <a:ext cx="4724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hange to improper fractions and multiply or div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35400" y="204300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398760" y="5288040"/>
                <a:ext cx="12621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043520" y="6153120"/>
                <a:ext cx="447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836640" y="517032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 flipV="1">
            <a:off x="1195560" y="5308560"/>
            <a:ext cx="53316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954160" y="604836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 flipV="1">
            <a:off x="2295360" y="6270480"/>
            <a:ext cx="576360" cy="40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27, 9 – 4 #1-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8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07T18:52:27Z</dcterms:modified>
  <cp:revision>115</cp:revision>
  <dc:subject/>
  <dc:title>Slide 1</dc:title>
</cp:coreProperties>
</file>